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F8913-B7E0-4FED-8A7F-3BF8B7EFE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AE84-1024-4F08-A22F-A75D142E7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8E7FC-E909-4DAC-80E2-3E94218EA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6F046-D56D-4D19-A6B7-1E78A71B7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3B267-D72A-4D9F-92D4-95275AC28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248D3-CC97-48DA-A88A-EAAB5F10E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85F0D-76C6-4C33-AD99-D91D1291F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8DCB5-F808-4C83-A9AC-812928223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D4B0A-5E63-4FE2-9108-539D7DD91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0861-7BB5-45EA-B293-33ABEAA3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3A09C-74E0-4649-B189-F983DB125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B1FE3-6691-4713-AD6C-0F35E1289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0E22-5B7D-4DBC-9E60-88EA30D61D24}"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7000"/>
            <a:ext cx="7772400" cy="37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Calibri"/>
              </a:rPr>
              <a:t>Coastal Management Strategie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ip-Rap/Rock Armour (H.E.)</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boulders, of 10 tonnes or more, are used as a sea wal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aps between the rocks allow water through, which means that the energy of the waves is dissipated very effectiv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mportant that the boulders are big enough to withstand being eroded themselves and therefore becoming part of the coastal syst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ip-Rap/Rock Armour (H.E.)</a:t>
            </a:r>
            <a:endParaRPr b="0" lang="en-US" sz="4400" spc="-1" strike="noStrike">
              <a:solidFill>
                <a:srgbClr val="000000"/>
              </a:solidFill>
              <a:latin typeface="Calibri"/>
            </a:endParaRPr>
          </a:p>
        </p:txBody>
      </p:sp>
      <p:pic>
        <p:nvPicPr>
          <p:cNvPr id="61" name="Picture 2" descr="http://www.geography-site.co.uk/pages/physical/coastal/images/riprap.jpg"/>
          <p:cNvPicPr/>
          <p:nvPr/>
        </p:nvPicPr>
        <p:blipFill>
          <a:blip r:embed="rId1"/>
          <a:stretch/>
        </p:blipFill>
        <p:spPr>
          <a:xfrm>
            <a:off x="1035000" y="1258920"/>
            <a:ext cx="7129440" cy="534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each Replenishment (S.E.)</a:t>
            </a:r>
            <a:endParaRPr b="0" lang="en-US" sz="4400" spc="-1" strike="noStrike">
              <a:solidFill>
                <a:srgbClr val="000000"/>
              </a:solidFill>
              <a:latin typeface="Calibri"/>
            </a:endParaRPr>
          </a:p>
        </p:txBody>
      </p:sp>
      <p:sp>
        <p:nvSpPr>
          <p:cNvPr id="63"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nd is either brought in from elsewhere, or transported back along a beach, usually once a year.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s done using trucks, and is therefore very costly and time consum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the next 12 months the material is washed along the coast by long shore drift, before being replaced again. The final method of coastal management is of course to do nothing and allow the sea attack the coastline naturally.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Disadvantages Of Coastal Management</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Co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solutions detailed are very costly, and in many places questions are being asked as to whether they are actually worth the mon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Disadvantages Of Coastal Management</a:t>
            </a:r>
            <a:endParaRPr b="0" lang="en-US" sz="4000" spc="-1" strike="noStrike">
              <a:solidFill>
                <a:srgbClr val="000000"/>
              </a:solidFill>
              <a:latin typeface="Calibri"/>
            </a:endParaRPr>
          </a:p>
        </p:txBody>
      </p:sp>
      <p:sp>
        <p:nvSpPr>
          <p:cNvPr id="6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blems of disrupting the natural coastal system:</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enever you tamper with nature there are going to be knock on effects, which could, in time, become worse than the original problem.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astal defence strategies are often very localised, and can cause problems further down the coast. One such example could be seen where groynes are used to trap sediment. Further down the coast there could be a reduction in the amount of material available to protect the coast there. This in turn would mean an increased amount of coastal erosio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y?</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ings like coastal tourism have become more frequent, humans have found it increasingly necessary to attempt to control the effects of the se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ain reasons for coastal management a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tect the coast from the erosive effects of the s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increase the amount of sand on the be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ethods/Technique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trategies have been tried around the world, and these can be divided into two main groups, hard and soft engineer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 engineering methods aim to stop the coastal processes from occurr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ft engineering methods try to work with nature to protect the coas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H.E.</a:t>
            </a:r>
            <a:r>
              <a:rPr b="0" lang="es-MX" sz="3200" spc="-1" strike="noStrike">
                <a:solidFill>
                  <a:srgbClr val="000000"/>
                </a:solidFill>
                <a:latin typeface="Calibri"/>
              </a:rPr>
              <a:t>= Hard Engineer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S.E.</a:t>
            </a:r>
            <a:r>
              <a:rPr b="0" lang="es-MX" sz="3200" spc="-1" strike="noStrike">
                <a:solidFill>
                  <a:srgbClr val="000000"/>
                </a:solidFill>
                <a:latin typeface="Calibri"/>
              </a:rPr>
              <a:t>= Soft Engineer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ea Wall (H.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built in front of seaside res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xpens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im to completely block the waves and their eff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 span of approximately 75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cause the erosion of the beach in front of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ly reassuring for local resi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ea Wall (H.E.)</a:t>
            </a:r>
            <a:endParaRPr b="0" lang="en-US" sz="4400" spc="-1" strike="noStrike">
              <a:solidFill>
                <a:srgbClr val="000000"/>
              </a:solidFill>
              <a:latin typeface="Calibri"/>
            </a:endParaRPr>
          </a:p>
        </p:txBody>
      </p:sp>
      <p:pic>
        <p:nvPicPr>
          <p:cNvPr id="49" name="Picture 2" descr="http://gallery.nen.gov.uk/gallery_images/0805/0000/0278/copy_of_recurved_sea_wall.jpg"/>
          <p:cNvPicPr/>
          <p:nvPr/>
        </p:nvPicPr>
        <p:blipFill>
          <a:blip r:embed="rId1"/>
          <a:stretch/>
        </p:blipFill>
        <p:spPr>
          <a:xfrm>
            <a:off x="900000" y="1262160"/>
            <a:ext cx="7272360" cy="54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ooden Groynes (H.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oden "fences" built at right angles to the coastli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im to stop the movement of material along the beach due to long shore drif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ir primary intention is to build up the amount of sand on the bea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 life span of approximately 25 ye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ooden Groynes (H.E.)</a:t>
            </a:r>
            <a:endParaRPr b="0" lang="en-US" sz="4400" spc="-1" strike="noStrike">
              <a:solidFill>
                <a:srgbClr val="000000"/>
              </a:solidFill>
              <a:latin typeface="Calibri"/>
            </a:endParaRPr>
          </a:p>
        </p:txBody>
      </p:sp>
      <p:pic>
        <p:nvPicPr>
          <p:cNvPr id="53" name="Picture 2" descr="http://www.stacey.peak-media.co.uk/purbeck/Swanage/800-P1030970.JPG"/>
          <p:cNvPicPr/>
          <p:nvPr/>
        </p:nvPicPr>
        <p:blipFill>
          <a:blip r:embed="rId1"/>
          <a:stretch/>
        </p:blipFill>
        <p:spPr>
          <a:xfrm>
            <a:off x="971640" y="126828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abion Baskets (H.E.)</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steel mesh cages filled with large rock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ed at right angles to the coastlin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im to do a similar job to wooden groyn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ed life span of 20 - 25 years, as the steel will ru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abion Baskets (H.E.)</a:t>
            </a:r>
            <a:endParaRPr b="0" lang="en-US" sz="4400" spc="-1" strike="noStrike">
              <a:solidFill>
                <a:srgbClr val="000000"/>
              </a:solidFill>
              <a:latin typeface="Calibri"/>
            </a:endParaRPr>
          </a:p>
        </p:txBody>
      </p:sp>
      <p:pic>
        <p:nvPicPr>
          <p:cNvPr id="57" name="Picture 2" descr="http://www.weld-mesh.com/images/canadapic8.jpg"/>
          <p:cNvPicPr/>
          <p:nvPr/>
        </p:nvPicPr>
        <p:blipFill>
          <a:blip r:embed="rId1"/>
          <a:stretch/>
        </p:blipFill>
        <p:spPr>
          <a:xfrm>
            <a:off x="826920" y="1484280"/>
            <a:ext cx="7561440" cy="49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0:26:55Z</dcterms:created>
  <dc:creator>Dell_02</dc:creator>
  <dc:description/>
  <dc:language>en-US</dc:language>
  <cp:lastModifiedBy>Dell_02</cp:lastModifiedBy>
  <dcterms:modified xsi:type="dcterms:W3CDTF">2011-01-27T00:43:26Z</dcterms:modified>
  <cp:revision>2</cp:revision>
  <dc:subject/>
  <dc:title>Coastal Management Strategies</dc:title>
</cp:coreProperties>
</file>